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478-4E9C-46DC-BDB1-8E14380E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133-350E-4130-B154-7E9F907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CB9-6B81-4265-A96B-18F1C82C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11F-F72D-499D-90ED-50EC7B21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6C5-F8D9-42F0-8609-A221BD69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D38-6475-4347-8747-F14F410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190-E104-42AB-B624-71E39F9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FB3-152A-4939-9D74-C224D554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402-4062-454B-B874-628EFA7C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0F1-731A-4555-A493-E1B3351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B41-EF2D-411C-9BFA-81BDF46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A8-BBEC-4304-9E83-AF36DA2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14F-BA42-4A0D-841F-CA7D61F5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hyperlink" Target="http://www.madrid.org/iestadis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maramadrid.es/" TargetMode="External"/><Relationship Id="rId2" Type="http://schemas.openxmlformats.org/officeDocument/2006/relationships/hyperlink" Target="http://www.paginasamarillas.es/" TargetMode="External"/><Relationship Id="rId3" Type="http://schemas.openxmlformats.org/officeDocument/2006/relationships/hyperlink" Target="http://es.qdq.com/" TargetMode="External"/><Relationship Id="rId4" Type="http://schemas.openxmlformats.org/officeDocument/2006/relationships/hyperlink" Target="http://es.qdq.com/" TargetMode="External"/><Relationship Id="rId5" Type="http://schemas.openxmlformats.org/officeDocument/2006/relationships/hyperlink" Target="http://es.qdq.com/" TargetMode="External"/><Relationship Id="rId6" Type="http://schemas.openxmlformats.org/officeDocument/2006/relationships/hyperlink" Target="http://es.qdq.com/" TargetMode="External"/><Relationship Id="rId7" Type="http://schemas.openxmlformats.org/officeDocument/2006/relationships/hyperlink" Target="http://es.qdq.com/" TargetMode="External"/><Relationship Id="rId8" Type="http://schemas.openxmlformats.org/officeDocument/2006/relationships/hyperlink" Target="http://www.emprendedores.es/" TargetMode="External"/><Relationship Id="rId9" Type="http://schemas.openxmlformats.org/officeDocument/2006/relationships/hyperlink" Target="http://www.consumer.es/" TargetMode="External"/><Relationship Id="rId10" Type="http://schemas.openxmlformats.org/officeDocument/2006/relationships/hyperlink" Target="http://www.bbva.com/TLBB/tlbb/jsp/esp/conozca/expbbva/index.jsp" TargetMode="Externa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fac.com/" TargetMode="External"/><Relationship Id="rId2" Type="http://schemas.openxmlformats.org/officeDocument/2006/relationships/hyperlink" Target="http://www.asetramadrid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ODOS Y TÉCNICAS DE INVESTIGACIÓN DE MERC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202360"/>
        </p:xfrm>
        <a:graphic>
          <a:graphicData uri="http://schemas.openxmlformats.org/drawingml/2006/table">
            <a:tbl>
              <a:tblPr/>
              <a:tblGrid>
                <a:gridCol w="4114800"/>
                <a:gridCol w="1944720"/>
                <a:gridCol w="2170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TI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étodos Estadísticos, buscan principalmente datos de cant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WE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(Paneles, Estudios Ómnibus, Test de Productos o Pruebas, Audiencias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étodos psicoanalíticos, buscan principalmente opiniones e idea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BSERVACIÓN PARTICIP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NTREVISTA EN PROFUND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RUPO DE DISCU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TROS (Test Proyectivos, Asociación Libre, 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EÑ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- DETERMINACIÓN DE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- RECOGIDA DE INFORMACIÓN (Metodologí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1.- DETERMINACIÓN DE LA FUENTES DE IN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PRIM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2.- DETERMINACIÓN DE MÉTODOS Y TÉCNICAS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ANTITATIVOS (Encuestas, Panel, Ómni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UALITATIVOS (Observación, Entrevista, Gru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3.- TRABAJO DE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.- ANÁLISIS E INTERPRETACIÓN DE LA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- REDACCIÓN DE INFORME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38080" y="1905120"/>
          <a:ext cx="8007480" cy="4294080"/>
        </p:xfrm>
        <a:graphic>
          <a:graphicData uri="http://schemas.openxmlformats.org/drawingml/2006/table">
            <a:tbl>
              <a:tblPr/>
              <a:tblGrid>
                <a:gridCol w="2813040"/>
                <a:gridCol w="5194440"/>
              </a:tblGrid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ENTOR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DEMOGRÁ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POLÍTICO-LEG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EC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SOCIO-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TECNOLÓGICO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NTO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SUSTITU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DE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981000"/>
          <a:ext cx="8229600" cy="55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ÁFIC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la Población por Sexo, Edad, Nivel Estudios, Estado Civil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s Asentami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TICOS - LEG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Polí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s (privatizaciones, regulacione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os, Autoriz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ÓMIC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Económica Ac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siones a Corto y medi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empleo y des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R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ción tipos de inter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O-CULTUR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o Modas socio-culturales (ecología, cuidado imagen personal, nuevas tecnologí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ult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TECNOLÓGIC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ción Tecn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25360"/>
          <a:ext cx="8229600" cy="5639040"/>
        </p:xfrm>
        <a:graphic>
          <a:graphicData uri="http://schemas.openxmlformats.org/drawingml/2006/table">
            <a:tbl>
              <a:tblPr/>
              <a:tblGrid>
                <a:gridCol w="2602080"/>
                <a:gridCol w="3313080"/>
                <a:gridCol w="2314440"/>
              </a:tblGrid>
              <a:tr h="20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R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Educ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s de comp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amaño de la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acterísticas de su Servicio (Ventajas competitiv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ivel de Pre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as de Dis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municació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b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ama de Pro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lazo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a de Dis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io de Post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lidad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92280" y="2117880"/>
          <a:ext cx="6807240" cy="4103640"/>
        </p:xfrm>
        <a:graphic>
          <a:graphicData uri="http://schemas.openxmlformats.org/drawingml/2006/table">
            <a:tbl>
              <a:tblPr/>
              <a:tblGrid>
                <a:gridCol w="2332080"/>
                <a:gridCol w="447516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quellos documentos, informes, estudios que </a:t>
                      </a: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e o elabora  la empres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a un estudio de mercado concr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 Encuestas, Análisis de Clientes, Grupos de Discusión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NDA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s, estadísticas, estudios, listados, bases de datos, que son realizados por una </a:t>
                      </a: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tidad ajen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la empresa y que está puede utilizar para realizar sus investigaciones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 Estadísticas del INE, Informes de Bancos y Cajas de Ahorro, Padrones Municipales, Estudios de Audiencias, Datos Cámaras de Comercio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GANISMOS PÚBLI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Nacional de Estadística (INE):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ine.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nco de España: http://www.bde.es/webbde/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 Público de Empleo Estatal (Inem): https://www.redtrabaja.es/es/redtrabaja/portal/index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de Estadísticas de la Comunidad de Madrid: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madrid.org/iestadi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ámara de Comercio de Madr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camaramadrid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elsen: http://es.nielsen.com/site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áginas Amarillas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paginasamarillas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DQ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es.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qdq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ndedores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http://www.emprendedores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mer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http://www.consumer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BVA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http://www.bbva.com/TLBB/tlbb/jsp/esp/conozca/expbbva/index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ixa: http://www.lacaixa.comunicacions.com/se/index.php?idioma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nsa Económica: Expansión: http://www.expansion.com/economi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co Días: http://www.cincodia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ENTES INFORMACIÓN:AUT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FAC (Asociación Nacional de Fabricantes de Automóviles y Camiones) 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anfac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TRA (Asociación de Talleres de Madrid)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asetramadri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guaces: http://www.desguace.bi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tas del sector: http://www.marcamoto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utocit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51:38Z</dcterms:created>
  <dc:creator>Benjamin Rua</dc:creator>
  <dc:description/>
  <dc:language>en-US</dc:language>
  <cp:lastModifiedBy>Maribel</cp:lastModifiedBy>
  <dcterms:modified xsi:type="dcterms:W3CDTF">2010-11-16T10:12:54Z</dcterms:modified>
  <cp:revision>14</cp:revision>
  <dc:subject/>
  <dc:title>ESTUDIO DE MERCADO</dc:title>
</cp:coreProperties>
</file>